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1E8-2BE2-4409-A561-5FC0447D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43D-4A44-4D00-9878-3E0FC2C1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8EE9-5B64-4DC9-B8B6-B931DECC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A03-A608-46C6-B6F5-336C2267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B687-4892-4B73-92DD-4227DAE9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A01C-FEF7-465A-9EBC-67759E0E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E737-E4D5-4365-88DD-010F9C75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9C0A-6C2E-4DC1-9267-5891E5D3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995E-839E-4929-853B-AE65DB5B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0561-9231-470F-91C6-D836420E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EB35-F1D4-4B85-BFB2-5EB8E2A8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169-0D09-4E87-88FA-10724ED3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30B4-9017-4DCE-A3EF-46A2B8D9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B8A5-5945-41E8-BA39-F36EFD5F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84FD-941C-4026-B88A-74263D3D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20E6-6712-4666-A2D1-11F613AE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2CA8-920E-4A9C-8B04-883F7469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8F75-9D87-4EDF-BE3B-70B23E84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28F-4414-4F64-9A9F-F6569ECA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37F-5266-4593-8C9A-B70CF2D9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F27-DBE1-40AF-8DAC-A2E9DF34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411-1BEA-494E-80AD-AEC0001C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763-C602-46AA-8A0F-E7B3FF62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977A-7ECF-403D-B74D-4D20E9A8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0E01-8DAF-4913-9659-C32DA41E9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6BD7-10D4-418F-8084-63D583291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one A Friend</a:t>
            </a:r>
            <a:br>
              <a:rPr sz="44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Grades 3 and 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with word wall words and your whole class in two or three t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phones make this all the r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one A Friend</a:t>
            </a:r>
            <a:br>
              <a:rPr sz="44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The Skinn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class into two or three t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vocabulary card to the first team.  The first player should answer with the correct definition for a point.  If anyone else talks that team looses a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t is their turn students may use a play phone to “call” another student on the team for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eams definitions to read.  They should answer with the correct word for a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44:52Z</dcterms:created>
  <dc:creator>Ann Weeks</dc:creator>
  <dc:description/>
  <dc:language>en-US</dc:language>
  <cp:lastModifiedBy>Ann Weeks</cp:lastModifiedBy>
  <dcterms:modified xsi:type="dcterms:W3CDTF">2008-06-29T13:56:34Z</dcterms:modified>
  <cp:revision>3</cp:revision>
  <dc:subject/>
  <dc:title>Phone A Friend A vocabulary game from Mentoring Minds</dc:title>
</cp:coreProperties>
</file>